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BB46-A0FB-41D9-98A2-D03359F79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B064-A898-49ED-9D3B-B44E77F4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4DDC-4492-4A66-BA9B-86A93F3AA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4968-4E96-4089-A36A-9E1F0146B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61E9-EAB5-495B-8AAA-C46788CB0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4FAE-0858-4BAA-A47D-6304BF89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B727-5EBC-4BC4-9188-E1375C8D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AABB-80D2-475D-870D-DE98C5D2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C9D4-C148-410A-A860-014E4AAA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1C05-65C9-45AD-A98A-10823016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E983-21F2-4A57-B7A0-A6A686CC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D98B-1335-452A-B451-D3AF9B14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00C9-3327-43DA-BBDA-54667E9A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2279-94D2-4701-B8F2-5A793E41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919E-13AA-492E-88A2-BE73FE41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1ECF-F282-44EE-89B1-91A10FC4A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89C9-FD99-4CB0-A087-4E132C05A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6341-35BD-4CAD-9D3F-CDA70EC7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CC4F-9B94-41E8-AAFD-CF8AB69E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1909-9483-4641-A1EC-3990AC04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BCED-ED43-4940-89CD-CB912C92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EA63-585C-4B23-9C20-8583F5F1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11AF-AE4E-400E-958C-6F50996E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7E9B-0C3F-4F21-90C2-11B848B0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DA44-94A1-4B8C-B8EE-39C13F1C3B8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3744-E4DA-4FA6-A28F-4007791CD08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2000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Earwig Factory"/>
              </a:rPr>
              <a:t>Freshmen</a:t>
            </a:r>
            <a:r>
              <a:rPr b="0" lang="en-US" sz="7200" spc="-1" strike="noStrike">
                <a:solidFill>
                  <a:srgbClr val="ff0000"/>
                </a:solidFill>
                <a:latin typeface="Earwig Factory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Earwig Factory"/>
              </a:rPr>
              <a:t>Class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209680" y="5866920"/>
            <a:ext cx="6934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pee"/>
              </a:rPr>
              <a:t>Purpose</a:t>
            </a:r>
            <a:r>
              <a:rPr b="1" lang="en-US" sz="4800" spc="-1" strike="noStrike">
                <a:solidFill>
                  <a:srgbClr val="000000"/>
                </a:solidFill>
                <a:latin typeface="Boopee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oopee"/>
              </a:rPr>
              <a:t>of Advisory Peri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8636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7162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lue Highway Linocut"/>
              </a:rPr>
              <a:t>What is the purpose of advisory period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rovide general academic, financial, college and career information and guidance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ach grade level has a specific curriculum designed to meet the needs of that particular group.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eshmen Advisory Focu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gh School Transi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ademic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CAP portfolio requirements and suppo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okerman"/>
              </a:rPr>
              <a:t>Freshmen Focu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Jokerman"/>
              </a:rPr>
              <a:t>High School Transition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04920" y="1676160"/>
            <a:ext cx="6400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nk Crew will come to Freshmen advisories a few times throughout the year to facilitate activiti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ilitating a smooth and successful high school transition is a main goal of Link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Cre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37200" y="2819520"/>
            <a:ext cx="3106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okerman"/>
              </a:rPr>
              <a:t>Freshmen Focus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Academ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st Prepa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nford Ten/AIMS reading, writing and math skill buil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y skills and final exam pre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okerman"/>
              </a:rPr>
              <a:t>Freshmen Foc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Jokerman"/>
              </a:rPr>
              <a:t>ECA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CAP career portfolio planning and support will be provided in Advisory throughout the year including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eer explo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gistration information related to four-year pla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port for academic progress (AIMS prep) toward academic goals/gradu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59608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21:15:10Z</dcterms:created>
  <dc:creator>Tech</dc:creator>
  <dc:description/>
  <dc:language>en-US</dc:language>
  <cp:lastModifiedBy>Leif Erickson</cp:lastModifiedBy>
  <dcterms:modified xsi:type="dcterms:W3CDTF">2011-06-05T22:31:21Z</dcterms:modified>
  <cp:revision>12</cp:revision>
  <dc:subject/>
  <dc:title>Sophomore Class </dc:title>
</cp:coreProperties>
</file>